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718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7180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B59A-BB0F-4008-9ED1-2BF25FF935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1176-FD61-419C-854C-5570DC0A53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BF92-F6BF-42A9-961D-F02F456677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5D01-A49D-4F66-88AB-E1D81EF0A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B227-4ECD-4C04-BBF8-24654353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0229-CD6B-41DB-8072-06F3D43B1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5AC3-C8FC-4E14-84A4-4917BC795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D5FA-2010-43A3-BA6D-6E697764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832D-3925-4549-8547-3AEF95EF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FA87-55E9-407D-B390-94FC468F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A0E6-052E-4677-985B-47907BEA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C180-A32D-4794-95D6-76787223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F4DB-7A96-4961-897B-F45B6C66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F9F9-C244-4617-BD23-416EA408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7758-F3AA-44BA-91B9-1E2CC2C1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9A8F-E7CD-4936-9170-D0ED179056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" name="Picture 56" descr="заставка"/>
            <p:cNvPicPr/>
            <p:nvPr/>
          </p:nvPicPr>
          <p:blipFill>
            <a:blip r:embed="rId2"/>
            <a:srcRect l="0" t="0" r="19322" b="0"/>
            <a:stretch/>
          </p:blipFill>
          <p:spPr>
            <a:xfrm>
              <a:off x="0" y="0"/>
              <a:ext cx="9144000" cy="155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" descr="C:\Documents and Settings\Ольга\Рабочий стол\1310477070.jpg"/>
            <p:cNvPicPr/>
            <p:nvPr/>
          </p:nvPicPr>
          <p:blipFill>
            <a:blip r:embed="rId3"/>
            <a:srcRect l="0" t="0" r="0" b="28119"/>
            <a:stretch/>
          </p:blipFill>
          <p:spPr>
            <a:xfrm>
              <a:off x="0" y="333360"/>
              <a:ext cx="1655640" cy="11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Rectangle 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" name="Picture 11" descr="C:\Users\Пользователь\Desktop\Эмблема.png"/>
          <p:cNvPicPr/>
          <p:nvPr/>
        </p:nvPicPr>
        <p:blipFill>
          <a:blip r:embed="rId4"/>
          <a:stretch/>
        </p:blipFill>
        <p:spPr>
          <a:xfrm>
            <a:off x="0" y="142920"/>
            <a:ext cx="2152800" cy="128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6"/>
          <p:cNvSpPr/>
          <p:nvPr/>
        </p:nvSpPr>
        <p:spPr>
          <a:xfrm>
            <a:off x="-1335240" y="8532720"/>
            <a:ext cx="652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КОСТРОМА, 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ая соединительная линия 20"/>
          <p:cNvSpPr/>
          <p:nvPr/>
        </p:nvSpPr>
        <p:spPr>
          <a:xfrm flipV="1">
            <a:off x="66600" y="1655280"/>
            <a:ext cx="8823240" cy="18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Рисунок 21" descr=""/>
          <p:cNvPicPr/>
          <p:nvPr/>
        </p:nvPicPr>
        <p:blipFill>
          <a:blip r:embed="rId1"/>
          <a:srcRect l="52056" t="0" r="26408" b="36435"/>
          <a:stretch/>
        </p:blipFill>
        <p:spPr>
          <a:xfrm>
            <a:off x="7101000" y="87480"/>
            <a:ext cx="1788840" cy="155556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9"/>
          <p:cNvSpPr/>
          <p:nvPr/>
        </p:nvSpPr>
        <p:spPr>
          <a:xfrm>
            <a:off x="66600" y="1994040"/>
            <a:ext cx="914400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nnaCTT"/>
              </a:rPr>
              <a:t>НОВЫЕ  ТРЕБОВАНИЯ К УСТАВАМ ОБРАЗОВАТЕЛЬНЫХ ОРГАНИЗАЦИ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nnaCTT"/>
              </a:rPr>
              <a:t>Будкина Любовь Владимировна, к.п.н., зав. кафедрой развития профессионального образ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nnaCTT"/>
              </a:rPr>
              <a:t>ОГБОУ ДПО «Костромской областной институ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nnaCTT"/>
              </a:rPr>
              <a:t>развития образования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6"/>
          <p:cNvSpPr/>
          <p:nvPr/>
        </p:nvSpPr>
        <p:spPr>
          <a:xfrm>
            <a:off x="-1335240" y="8532720"/>
            <a:ext cx="652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КОСТРОМА, 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ая соединительная линия 20"/>
          <p:cNvSpPr/>
          <p:nvPr/>
        </p:nvSpPr>
        <p:spPr>
          <a:xfrm flipV="1">
            <a:off x="66600" y="1655280"/>
            <a:ext cx="8823240" cy="18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Рисунок 21" descr=""/>
          <p:cNvPicPr/>
          <p:nvPr/>
        </p:nvPicPr>
        <p:blipFill>
          <a:blip r:embed="rId1"/>
          <a:srcRect l="52056" t="0" r="26408" b="36435"/>
          <a:stretch/>
        </p:blipFill>
        <p:spPr>
          <a:xfrm>
            <a:off x="7101000" y="87480"/>
            <a:ext cx="1788840" cy="155556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" descr=""/>
          <p:cNvPicPr/>
          <p:nvPr/>
        </p:nvPicPr>
        <p:blipFill>
          <a:blip r:embed="rId2"/>
          <a:stretch/>
        </p:blipFill>
        <p:spPr>
          <a:xfrm>
            <a:off x="66600" y="128520"/>
            <a:ext cx="2455920" cy="139860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9"/>
          <p:cNvSpPr/>
          <p:nvPr/>
        </p:nvSpPr>
        <p:spPr>
          <a:xfrm>
            <a:off x="66600" y="1994040"/>
            <a:ext cx="914400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nnaCTT"/>
              </a:rPr>
              <a:t>НОВЫЕ  ТРЕБОВАНИЯ К УСТАВАМ ОБРАЗОВАТЕЛЬНЫХ ОРГАНИЗАЦИ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nnaCTT"/>
              </a:rPr>
              <a:t>Будкина Любовь Владимировна, к.п.н., зав. кафедрой развития профессионального образ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nnaCTT"/>
              </a:rPr>
              <a:t>ОГБОУ ДПО «Костромской областной институ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nnaCTT"/>
              </a:rPr>
              <a:t>развития образования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4"/>
          <p:cNvSpPr/>
          <p:nvPr/>
        </p:nvSpPr>
        <p:spPr>
          <a:xfrm>
            <a:off x="755640" y="1949760"/>
            <a:ext cx="7345440" cy="703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ажданский кодекс РФ ( в ред. ФЗ от 05.05.2014 г. № 99-ФЗ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Объект 2"/>
          <p:cNvSpPr/>
          <p:nvPr/>
        </p:nvSpPr>
        <p:spPr>
          <a:xfrm>
            <a:off x="0" y="981000"/>
            <a:ext cx="8701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Arial"/>
              </a:rPr>
              <a:t>Актуальные документы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Прямоугольник 14"/>
          <p:cNvSpPr/>
          <p:nvPr/>
        </p:nvSpPr>
        <p:spPr>
          <a:xfrm>
            <a:off x="826920" y="3727800"/>
            <a:ext cx="7378920" cy="703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З «Об образовании в РФ» от 29.12.2012г. № 273-ФЗ ( в ред. от 31.12.2014 г. № 519-ФЗ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Прямоугольник 14"/>
          <p:cNvSpPr/>
          <p:nvPr/>
        </p:nvSpPr>
        <p:spPr>
          <a:xfrm>
            <a:off x="755640" y="2792880"/>
            <a:ext cx="7416720" cy="703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З «О некоммерческих организациях» от 12.01.1996г. № 7-ФЗ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в ред. от 08.03.2015г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14"/>
          <p:cNvSpPr/>
          <p:nvPr/>
        </p:nvSpPr>
        <p:spPr>
          <a:xfrm>
            <a:off x="826920" y="4559400"/>
            <a:ext cx="7378920" cy="1923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казы Министерства образования и науки РФ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Об утверждении Порядка организации и осуществления образовательной деятельности по образовательным программа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школьным  от 30.08.2013г. № 1014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щеобразовательным от 30.08.2013г. № 101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полнительным от 29.08.2013г. № 1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4"/>
          <p:cNvSpPr/>
          <p:nvPr/>
        </p:nvSpPr>
        <p:spPr>
          <a:xfrm>
            <a:off x="826920" y="2216520"/>
            <a:ext cx="7345440" cy="703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 образовательной организации (ст.2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Объект 2"/>
          <p:cNvSpPr/>
          <p:nvPr/>
        </p:nvSpPr>
        <p:spPr>
          <a:xfrm>
            <a:off x="0" y="1197000"/>
            <a:ext cx="82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Arial"/>
              </a:rPr>
              <a:t>Основные требования к Уставу О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Arial"/>
              </a:rPr>
              <a:t>ст.25 ФЗ-27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Прямоугольник 14"/>
          <p:cNvSpPr/>
          <p:nvPr/>
        </p:nvSpPr>
        <p:spPr>
          <a:xfrm>
            <a:off x="826920" y="3945240"/>
            <a:ext cx="7378920" cy="703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образовательных программ (ст.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Прямоугольник 14"/>
          <p:cNvSpPr/>
          <p:nvPr/>
        </p:nvSpPr>
        <p:spPr>
          <a:xfrm>
            <a:off x="826920" y="4880520"/>
            <a:ext cx="7417080" cy="1313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тановление структуры, порядка формирования, срока полномочий и компетенции органов управления, порядка принятия ими решений и выступления от имени образовательной организации (ст.26-2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оугольник 14"/>
          <p:cNvSpPr/>
          <p:nvPr/>
        </p:nvSpPr>
        <p:spPr>
          <a:xfrm>
            <a:off x="826920" y="3080160"/>
            <a:ext cx="7417080" cy="703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редитель (ст.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Объект 2"/>
          <p:cNvSpPr/>
          <p:nvPr/>
        </p:nvSpPr>
        <p:spPr>
          <a:xfrm>
            <a:off x="539640" y="981000"/>
            <a:ext cx="7993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Дополнительные требова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к Уставу О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Скругленный прямоугольник 2"/>
          <p:cNvSpPr/>
          <p:nvPr/>
        </p:nvSpPr>
        <p:spPr>
          <a:xfrm>
            <a:off x="324000" y="2133720"/>
            <a:ext cx="4032000" cy="2087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язательные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ля всех,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дополняющие но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атьи 25 ФЗ-27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Скругленный прямоугольник 2"/>
          <p:cNvSpPr/>
          <p:nvPr/>
        </p:nvSpPr>
        <p:spPr>
          <a:xfrm>
            <a:off x="4859280" y="2133720"/>
            <a:ext cx="4032360" cy="2158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язательны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ля отдельных типо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О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Скругленный прямоугольник 2"/>
          <p:cNvSpPr/>
          <p:nvPr/>
        </p:nvSpPr>
        <p:spPr>
          <a:xfrm>
            <a:off x="1042920" y="4724280"/>
            <a:ext cx="720108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ополнительные необязате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Объект 2"/>
          <p:cNvSpPr/>
          <p:nvPr/>
        </p:nvSpPr>
        <p:spPr>
          <a:xfrm>
            <a:off x="0" y="620640"/>
            <a:ext cx="85327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Обязательные 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</a:rPr>
              <a:t>для всех,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дополняющие но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татьи 25 ФЗ-27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Скругленный прямоугольник 2"/>
          <p:cNvSpPr/>
          <p:nvPr/>
        </p:nvSpPr>
        <p:spPr>
          <a:xfrm>
            <a:off x="468360" y="1916280"/>
            <a:ext cx="3743280" cy="1152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крепление норм о филиалах (при их наличии) – п.4 ст.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Скругленный прямоугольник 2"/>
          <p:cNvSpPr/>
          <p:nvPr/>
        </p:nvSpPr>
        <p:spPr>
          <a:xfrm>
            <a:off x="324000" y="3357720"/>
            <a:ext cx="8351640" cy="1295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становление прав, обязанностей и ответственности инженерно-технических, административно-хозяйственных, производственных, медицинских и пр.  работников, осуществляющих вспомогательные функции – ч.3 ст.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Скругленный прямоугольник 2"/>
          <p:cNvSpPr/>
          <p:nvPr/>
        </p:nvSpPr>
        <p:spPr>
          <a:xfrm>
            <a:off x="324000" y="4869000"/>
            <a:ext cx="8462880" cy="57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пределение уставных целей деятельности – ч.1 ст.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Скругленный прямоугольник 2"/>
          <p:cNvSpPr/>
          <p:nvPr/>
        </p:nvSpPr>
        <p:spPr>
          <a:xfrm>
            <a:off x="4643280" y="1916280"/>
            <a:ext cx="3889440" cy="1008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рядок принятия локальных актов – ч.1 ст.28 и ч.1 ст.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Скругленный прямоугольник 2"/>
          <p:cNvSpPr/>
          <p:nvPr/>
        </p:nvSpPr>
        <p:spPr>
          <a:xfrm>
            <a:off x="357120" y="5589720"/>
            <a:ext cx="8429760" cy="1081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рядок направления при ликвидации образовательной организации ее имущества после удовлетворения требований кредиторов на цели развития образования – ч.3 ст.1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Объект 2"/>
          <p:cNvSpPr/>
          <p:nvPr/>
        </p:nvSpPr>
        <p:spPr>
          <a:xfrm>
            <a:off x="0" y="620640"/>
            <a:ext cx="85327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Обязательные 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</a:rPr>
              <a:t>для всех,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дополняющие но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татьи 25 ФЗ-27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Скругленный прямоугольник 2"/>
          <p:cNvSpPr/>
          <p:nvPr/>
        </p:nvSpPr>
        <p:spPr>
          <a:xfrm>
            <a:off x="468360" y="1916280"/>
            <a:ext cx="3743280" cy="1152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рядок участия обучающихся в управлении ОО– п.17 ч.1 ст.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Скругленный прямоугольник 2"/>
          <p:cNvSpPr/>
          <p:nvPr/>
        </p:nvSpPr>
        <p:spPr>
          <a:xfrm>
            <a:off x="324000" y="3357720"/>
            <a:ext cx="8351640" cy="1295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рядок участия педагогических работников в управлении ОО, в том числе в коллегиальных органах управления  –п.9 ч.3  ст.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Скругленный прямоугольник 2"/>
          <p:cNvSpPr/>
          <p:nvPr/>
        </p:nvSpPr>
        <p:spPr>
          <a:xfrm>
            <a:off x="324000" y="4869000"/>
            <a:ext cx="8462880" cy="57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рядок назначения (избрания) руководителя ОО – ч.1 ст.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Скругленный прямоугольник 2"/>
          <p:cNvSpPr/>
          <p:nvPr/>
        </p:nvSpPr>
        <p:spPr>
          <a:xfrm>
            <a:off x="4643280" y="1916280"/>
            <a:ext cx="3889440" cy="1008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Форма участия родителей в управлении ОО – п.7 ч.3 ст.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Скругленный прямоугольник 2"/>
          <p:cNvSpPr/>
          <p:nvPr/>
        </p:nvSpPr>
        <p:spPr>
          <a:xfrm>
            <a:off x="357120" y="5589720"/>
            <a:ext cx="8429760" cy="1081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пределение прав и обязанностей руководителя ОО, его компетенции в области управления ОО– ч.6 ст.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Объект 2"/>
          <p:cNvSpPr/>
          <p:nvPr/>
        </p:nvSpPr>
        <p:spPr>
          <a:xfrm>
            <a:off x="0" y="907920"/>
            <a:ext cx="8701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Обязатель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</a:rPr>
              <a:t>для отдельных типов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О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Прямоугольник 7"/>
          <p:cNvSpPr/>
          <p:nvPr/>
        </p:nvSpPr>
        <p:spPr>
          <a:xfrm>
            <a:off x="357120" y="1700280"/>
            <a:ext cx="8501040" cy="1008720"/>
          </a:xfrm>
          <a:prstGeom prst="rect">
            <a:avLst/>
          </a:prstGeom>
          <a:solidFill>
            <a:srgbClr val="5981bd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альные названия обучающихся по дополнительным общеобразовательным программам (цель – подготовка к военной или государственной службе) – ч.2 ст.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324000" y="2924280"/>
            <a:ext cx="851220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рядок вхождения научных работников в состав коллегиальных органов управления ОО – п.1 ч.2 ст.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Прямоугольник 7"/>
          <p:cNvSpPr/>
          <p:nvPr/>
        </p:nvSpPr>
        <p:spPr>
          <a:xfrm>
            <a:off x="324000" y="3860640"/>
            <a:ext cx="8535960" cy="703800"/>
          </a:xfrm>
          <a:prstGeom prst="rect">
            <a:avLst/>
          </a:prstGeom>
          <a:solidFill>
            <a:srgbClr val="5981bd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пределение особенностей избрания, назначения на должность руководителя частной ОО – ч.10 ст.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рямоугольник 3"/>
          <p:cNvSpPr/>
          <p:nvPr/>
        </p:nvSpPr>
        <p:spPr>
          <a:xfrm>
            <a:off x="357120" y="4797360"/>
            <a:ext cx="853596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рядок избрания президента ОО высшего образования – ч.13 ст.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Объект 2"/>
          <p:cNvSpPr/>
          <p:nvPr/>
        </p:nvSpPr>
        <p:spPr>
          <a:xfrm>
            <a:off x="0" y="907920"/>
            <a:ext cx="8701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Дополнительные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Необязатель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Прямоугольник 7"/>
          <p:cNvSpPr/>
          <p:nvPr/>
        </p:nvSpPr>
        <p:spPr>
          <a:xfrm>
            <a:off x="324000" y="2133720"/>
            <a:ext cx="8501040" cy="703800"/>
          </a:xfrm>
          <a:prstGeom prst="rect">
            <a:avLst/>
          </a:prstGeom>
          <a:solidFill>
            <a:srgbClr val="5981bd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коллегиальных органов управления, не относящихся к обязательным – ч.4 ст.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324000" y="3068640"/>
            <a:ext cx="851220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аво ОО на ведение научной и (или) творческой деятельности – ч.4 ст.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Прямоугольник 7"/>
          <p:cNvSpPr/>
          <p:nvPr/>
        </p:nvSpPr>
        <p:spPr>
          <a:xfrm>
            <a:off x="324000" y="4221000"/>
            <a:ext cx="8535960" cy="703800"/>
          </a:xfrm>
          <a:prstGeom prst="rect">
            <a:avLst/>
          </a:prstGeom>
          <a:solidFill>
            <a:srgbClr val="5981bd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становление иной (не образовательной) деятельности, которую ОО вправе осуществлять – ч.1 ст.1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Объект 2"/>
          <p:cNvSpPr/>
          <p:nvPr/>
        </p:nvSpPr>
        <p:spPr>
          <a:xfrm>
            <a:off x="0" y="907920"/>
            <a:ext cx="8701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труктура Уста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Прямоугольник 7"/>
          <p:cNvSpPr/>
          <p:nvPr/>
        </p:nvSpPr>
        <p:spPr>
          <a:xfrm>
            <a:off x="179280" y="1557360"/>
            <a:ext cx="8678880" cy="398880"/>
          </a:xfrm>
          <a:prstGeom prst="rect">
            <a:avLst/>
          </a:prstGeom>
          <a:solidFill>
            <a:srgbClr val="5981bd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.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полож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179280" y="1989000"/>
            <a:ext cx="87282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.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едмет, цели и виды деятельности Учрежд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Прямоугольник 7"/>
          <p:cNvSpPr/>
          <p:nvPr/>
        </p:nvSpPr>
        <p:spPr>
          <a:xfrm>
            <a:off x="179280" y="2421000"/>
            <a:ext cx="8680680" cy="398880"/>
          </a:xfrm>
          <a:prstGeom prst="rect">
            <a:avLst/>
          </a:prstGeom>
          <a:solidFill>
            <a:srgbClr val="5981bd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II.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ием в Учрежд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179280" y="2852640"/>
            <a:ext cx="86806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V.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разовательная деятельность Учрежд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179280" y="3284640"/>
            <a:ext cx="8680680" cy="398880"/>
          </a:xfrm>
          <a:prstGeom prst="rect">
            <a:avLst/>
          </a:prstGeom>
          <a:solidFill>
            <a:srgbClr val="5981bd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.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правление Учреждени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179280" y="3716280"/>
            <a:ext cx="860760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I.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ава, обязанности и ответственность участников образовательных отноше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179280" y="4437000"/>
            <a:ext cx="8607600" cy="398880"/>
          </a:xfrm>
          <a:prstGeom prst="rect">
            <a:avLst/>
          </a:prstGeom>
          <a:solidFill>
            <a:srgbClr val="5981bd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II.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мущество и финансово-хозяйственная деятельность Учрежд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179280" y="4869000"/>
            <a:ext cx="86806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III.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еждународная и внешнеэкономическая деятельность Учрежд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рямоугольник 7"/>
          <p:cNvSpPr/>
          <p:nvPr/>
        </p:nvSpPr>
        <p:spPr>
          <a:xfrm>
            <a:off x="179280" y="5300640"/>
            <a:ext cx="8680680" cy="703800"/>
          </a:xfrm>
          <a:prstGeom prst="rect">
            <a:avLst/>
          </a:prstGeom>
          <a:solidFill>
            <a:srgbClr val="5981bd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X.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Локальные нормативные акты, содержащие нормы, регулирующие образовательные отношения в Учреждении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Прямоугольник 3"/>
          <p:cNvSpPr/>
          <p:nvPr/>
        </p:nvSpPr>
        <p:spPr>
          <a:xfrm>
            <a:off x="179280" y="6021360"/>
            <a:ext cx="86806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X.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еорганизация, изменение типа и ликвидация Учрежд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79280" y="6453360"/>
            <a:ext cx="8751960" cy="398880"/>
          </a:xfrm>
          <a:prstGeom prst="rect">
            <a:avLst/>
          </a:prstGeom>
          <a:solidFill>
            <a:srgbClr val="5981bd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X.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Порядок изменения Устава Учрежд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1:54:14Z</dcterms:created>
  <dc:creator>Люба</dc:creator>
  <dc:description/>
  <dc:language>en-US</dc:language>
  <cp:lastModifiedBy>Пользователь</cp:lastModifiedBy>
  <cp:lastPrinted>2017-11-29T06:56:59Z</cp:lastPrinted>
  <dcterms:modified xsi:type="dcterms:W3CDTF">2017-11-29T09:38:37Z</dcterms:modified>
  <cp:revision>176</cp:revision>
  <dc:subject/>
  <dc:title>Слайд 1</dc:title>
</cp:coreProperties>
</file>